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wmf" ContentType="image/x-wmf"/>
  <Override PartName="/ppt/media/image7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CD0C1-2CBB-433F-AE2A-6343714B14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FE221-B705-4B1D-A2CE-D114666BC9F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081D5-6979-4007-B500-E725D8878B1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6599A-CC48-4D04-B8BF-42E38E21547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AB7CE-2DD2-4DEA-99F3-749E07EC301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EFC40-63AC-43FE-A035-FE0DF368666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22048-FFDC-4259-94CB-CDE5B8FD6BC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7875E-D1DA-4533-82FF-B4C70361A0F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21BF3-82BD-4816-965E-38537FA6D51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78C92-48B6-46AB-AE71-B30494E93B9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54D99-1157-41B6-A9C3-EE6FDF717B5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6EF16-2E09-42C0-8A3C-01B63AAB199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BF555-2268-4A2F-87E3-E07B8BE27B7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AB4B3-F088-47C8-9784-DCC08948770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8F927-0EEA-44BC-AC00-4967DC542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40B3C-0DB5-47D7-803C-9A94BD5E7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19F5A-EDA9-4102-9F2C-4BB62030E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49DEB-CA87-404D-AA9C-4141E9280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CCA04-43C2-46B4-8BC6-78401BE6C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CBE21-DF33-4329-8D33-830BA5E92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984E9-5D53-4C97-9DF9-6682940E1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A82A2-2879-4474-BE70-E4C196D05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EBE33-7A2D-4B00-A2BD-86D9D6501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C507A-6B53-472E-86AC-4A4AD3D43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A1122-EC95-4865-A7C0-F7CAB248C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D1A32-90DB-4159-8B7C-B0D920497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0199C-A3A3-44A1-930E-4316D86A9C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hyperlink" Target="http://www.jyell.jp/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609480" y="1600200"/>
            <a:ext cx="784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5400" spc="-1" strike="noStrike">
                <a:solidFill>
                  <a:srgbClr val="000000"/>
                </a:solidFill>
                <a:latin typeface="Century"/>
                <a:ea typeface="HGP創英角ｺﾞｼｯｸUB"/>
              </a:rPr>
              <a:t>人事評価マルペケクイズ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0" y="20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5" descr="http://www.jyell.jp/image_saru.gif"/>
          <p:cNvPicPr/>
          <p:nvPr/>
        </p:nvPicPr>
        <p:blipFill>
          <a:blip r:embed="rId1"/>
          <a:stretch/>
        </p:blipFill>
        <p:spPr>
          <a:xfrm>
            <a:off x="1371600" y="3124080"/>
            <a:ext cx="2835360" cy="267516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8"/>
          <p:cNvSpPr/>
          <p:nvPr/>
        </p:nvSpPr>
        <p:spPr>
          <a:xfrm>
            <a:off x="0" y="252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10" descr="http://www.jyell.jp/image_kaeru.gif"/>
          <p:cNvPicPr/>
          <p:nvPr/>
        </p:nvPicPr>
        <p:blipFill>
          <a:blip r:embed="rId2"/>
          <a:stretch/>
        </p:blipFill>
        <p:spPr>
          <a:xfrm>
            <a:off x="5943600" y="4038480"/>
            <a:ext cx="1554120" cy="1771920"/>
          </a:xfrm>
          <a:prstGeom prst="rect">
            <a:avLst/>
          </a:prstGeom>
          <a:ln w="0">
            <a:noFill/>
          </a:ln>
        </p:spPr>
      </p:pic>
      <p:sp>
        <p:nvSpPr>
          <p:cNvPr id="53" name="Text Box 14"/>
          <p:cNvSpPr/>
          <p:nvPr/>
        </p:nvSpPr>
        <p:spPr>
          <a:xfrm>
            <a:off x="533520" y="0"/>
            <a:ext cx="8610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ccccff"/>
                </a:solidFill>
                <a:latin typeface="ＭＳ ゴシック"/>
                <a:ea typeface="ＭＳ ゴシック"/>
              </a:rPr>
              <a:t>じんじ屋エール</a:t>
            </a:r>
            <a:r>
              <a:rPr b="0" lang="ja-JP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　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ＭＳ ゴシック"/>
                <a:ea typeface="ＭＳ ゴシック"/>
                <a:hlinkClick r:id="rId3"/>
              </a:rPr>
              <a:t>https://www.jyell.j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2"/>
          <p:cNvSpPr/>
          <p:nvPr/>
        </p:nvSpPr>
        <p:spPr>
          <a:xfrm>
            <a:off x="228600" y="1447920"/>
            <a:ext cx="861048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【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問題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毎年恒例のクリスマスキャンペーンでは、加藤君が１年前に考案したデータ整理方式のおかげで、時系列の状況が分かって今年も大変助かっている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しかし、この件に関しては１年という期間を経過しているため、今回の賞与は５段階評価で上から２番目の評価を与えた（昨年は最高評価）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※</a:t>
            </a:r>
            <a:r>
              <a:rPr b="0" lang="ja-JP" sz="3200" spc="-1" strike="noStrike">
                <a:solidFill>
                  <a:srgbClr val="ff0000"/>
                </a:solidFill>
                <a:latin typeface="Times New Roman"/>
              </a:rPr>
              <a:t>この問題はサンプルで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3"/>
          <p:cNvSpPr/>
          <p:nvPr/>
        </p:nvSpPr>
        <p:spPr>
          <a:xfrm>
            <a:off x="228600" y="228600"/>
            <a:ext cx="868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ＭＳ Ｐゴシック"/>
              </a:rPr>
              <a:t>マルペケクイズ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2"/>
          <p:cNvSpPr/>
          <p:nvPr/>
        </p:nvSpPr>
        <p:spPr>
          <a:xfrm>
            <a:off x="228600" y="228600"/>
            <a:ext cx="868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000000"/>
                </a:solidFill>
                <a:latin typeface="Times New Roman"/>
              </a:rPr>
              <a:t>推理クイズもあります</a:t>
            </a:r>
            <a:r>
              <a:rPr b="1" lang="en-US" sz="4000" spc="-1" strike="noStrike">
                <a:solidFill>
                  <a:srgbClr val="000000"/>
                </a:solidFill>
                <a:latin typeface="ＭＳ Ｐゴシック"/>
              </a:rPr>
              <a:t>!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3"/>
          <p:cNvSpPr/>
          <p:nvPr/>
        </p:nvSpPr>
        <p:spPr>
          <a:xfrm>
            <a:off x="304920" y="1447920"/>
            <a:ext cx="853416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株式会社ピージーエー工房では、今年から人事評価制度を導入しました。</a:t>
            </a:r>
            <a:br>
              <a:rPr sz="3200"/>
            </a:b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この会社の現場スタッフはすべて女性で、キャリアレディ</a:t>
            </a:r>
            <a:r>
              <a:rPr b="0" lang="en-US" sz="3200" spc="-1" strike="noStrike">
                <a:solidFill>
                  <a:srgbClr val="000000"/>
                </a:solidFill>
                <a:latin typeface="ＭＳ Ｐゴシック"/>
              </a:rPr>
              <a:t>(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略して「キャディ」</a:t>
            </a:r>
            <a:r>
              <a:rPr b="0" lang="en-US" sz="3200" spc="-1" strike="noStrike">
                <a:solidFill>
                  <a:srgbClr val="000000"/>
                </a:solidFill>
                <a:latin typeface="ＭＳ Ｐゴシック"/>
              </a:rPr>
              <a:t>)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と呼んでいます。</a:t>
            </a:r>
            <a:br>
              <a:rPr sz="3200"/>
            </a:b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期末手当の評価を行なったところ、困ったことが起きました。７人のキャディの勤務ぶりについて３人の上司が評価を行ないましたが、３者３様の結果となってしまったのです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　　　　　　　　　　～ 以下省略 ～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2"/>
          <p:cNvSpPr/>
          <p:nvPr/>
        </p:nvSpPr>
        <p:spPr>
          <a:xfrm>
            <a:off x="228600" y="228600"/>
            <a:ext cx="868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000000"/>
                </a:solidFill>
                <a:latin typeface="Times New Roman"/>
              </a:rPr>
              <a:t>本格的な５段階評価事例もあります</a:t>
            </a:r>
            <a:r>
              <a:rPr b="1" lang="en-US" sz="4000" spc="-1" strike="noStrike">
                <a:solidFill>
                  <a:srgbClr val="000000"/>
                </a:solidFill>
                <a:latin typeface="ＭＳ Ｐゴシック"/>
              </a:rPr>
              <a:t>!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304920" y="1447920"/>
            <a:ext cx="853416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オーソドックスな評価者研修の方法です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●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メリット●　実際の評価と同様に「どの評価項目で評価するか」と「評価段階をどうするか」について訓練する機会を得ることができます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●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デメリット●　初めての評価者研修にはやや敷居が高く感じられるようです。また、複数企業の合同研修では、企業間の知識・意識レベルに格差があり、もう少し単純な研修（人事評価〇</a:t>
            </a:r>
            <a:r>
              <a:rPr b="0" lang="en-US" sz="3200" spc="-1" strike="noStrike">
                <a:solidFill>
                  <a:srgbClr val="000000"/>
                </a:solidFill>
                <a:latin typeface="ＭＳ Ｐゴシック"/>
              </a:rPr>
              <a:t>×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クイズ）の方が効果的です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2"/>
          <p:cNvSpPr/>
          <p:nvPr/>
        </p:nvSpPr>
        <p:spPr>
          <a:xfrm>
            <a:off x="228600" y="228600"/>
            <a:ext cx="868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ＭＳ Ｐゴシック"/>
              </a:rPr>
              <a:t>人事評価制度のポイント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3"/>
          <p:cNvSpPr/>
          <p:nvPr/>
        </p:nvSpPr>
        <p:spPr>
          <a:xfrm>
            <a:off x="217440" y="1341360"/>
            <a:ext cx="495288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Times New Roman"/>
              </a:rPr>
              <a:t>説明事項の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Times New Roman"/>
              </a:rPr>
              <a:t>・評価者エラー防止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Times New Roman"/>
              </a:rPr>
              <a:t>・調整作業のやり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Times New Roman"/>
              </a:rPr>
              <a:t>・評価結果グラフ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Times New Roman"/>
              </a:rPr>
              <a:t>・複数評価の結合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Times New Roman"/>
              </a:rPr>
              <a:t>・時系列処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 5" descr="http://www.jyell.jp/image/syo_nyuuryoku_hyou_06.JPG"/>
          <p:cNvPicPr/>
          <p:nvPr/>
        </p:nvPicPr>
        <p:blipFill>
          <a:blip r:embed="rId1"/>
          <a:stretch/>
        </p:blipFill>
        <p:spPr>
          <a:xfrm>
            <a:off x="4794120" y="3789360"/>
            <a:ext cx="4121280" cy="273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2"/>
          <p:cNvSpPr/>
          <p:nvPr/>
        </p:nvSpPr>
        <p:spPr>
          <a:xfrm>
            <a:off x="0" y="2286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ＭＳ Ｐゴシック"/>
              </a:rPr>
              <a:t>唯一の欠点は？ ・・・受講資格に注意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3"/>
          <p:cNvSpPr/>
          <p:nvPr/>
        </p:nvSpPr>
        <p:spPr>
          <a:xfrm>
            <a:off x="5334120" y="1295280"/>
            <a:ext cx="3504960" cy="2667240"/>
          </a:xfrm>
          <a:prstGeom prst="wedgeRoundRectCallout">
            <a:avLst>
              <a:gd name="adj1" fmla="val 5027"/>
              <a:gd name="adj2" fmla="val 66787"/>
              <a:gd name="adj3" fmla="val 16667"/>
            </a:avLst>
          </a:prstGeom>
          <a:solidFill>
            <a:srgbClr val="008000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ffffff"/>
                </a:solidFill>
                <a:latin typeface="Times New Roman"/>
                <a:ea typeface="ＭＳ ゴシック"/>
              </a:rPr>
              <a:t>前に受講したことがあるから答えわかってるもんねー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4"/>
          <p:cNvSpPr/>
          <p:nvPr/>
        </p:nvSpPr>
        <p:spPr>
          <a:xfrm>
            <a:off x="304920" y="1295280"/>
            <a:ext cx="3581280" cy="2743200"/>
          </a:xfrm>
          <a:prstGeom prst="wedgeRoundRectCallout">
            <a:avLst>
              <a:gd name="adj1" fmla="val -1550"/>
              <a:gd name="adj2" fmla="val 6429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貴方には私のアシスタントに就いていただきます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12" descr="C:\Users\jyell2\Documents\さいたま総研\H21事業関連\アカデミー賞\作業用\person_0199\person_0199.wmf"/>
          <p:cNvPicPr/>
          <p:nvPr/>
        </p:nvPicPr>
        <p:blipFill>
          <a:blip r:embed="rId1"/>
          <a:stretch/>
        </p:blipFill>
        <p:spPr>
          <a:xfrm>
            <a:off x="5181480" y="4343400"/>
            <a:ext cx="2049480" cy="21258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3" descr="C:\Users\jyell2\Documents\さいたま総研\H21事業関連\アカデミー賞\作業用\person_0201\person_0201.wmf"/>
          <p:cNvPicPr/>
          <p:nvPr/>
        </p:nvPicPr>
        <p:blipFill>
          <a:blip r:embed="rId2"/>
          <a:stretch/>
        </p:blipFill>
        <p:spPr>
          <a:xfrm>
            <a:off x="2133720" y="4495680"/>
            <a:ext cx="197172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4"/>
          <p:cNvSpPr/>
          <p:nvPr/>
        </p:nvSpPr>
        <p:spPr>
          <a:xfrm>
            <a:off x="0" y="1522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ff"/>
                </a:solidFill>
                <a:latin typeface="Times New Roman"/>
              </a:rPr>
              <a:t>人事評価マルペケクイズの活用方法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AutoShape 12"/>
          <p:cNvSpPr/>
          <p:nvPr/>
        </p:nvSpPr>
        <p:spPr>
          <a:xfrm>
            <a:off x="380880" y="1295280"/>
            <a:ext cx="10134720" cy="2590920"/>
          </a:xfrm>
          <a:prstGeom prst="roundRect">
            <a:avLst>
              <a:gd name="adj" fmla="val 50000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0" spc="-1" strike="noStrike">
                <a:solidFill>
                  <a:srgbClr val="008000"/>
                </a:solidFill>
                <a:latin typeface="Times New Roman"/>
              </a:rPr>
              <a:t>作る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AutoShape 13"/>
          <p:cNvSpPr/>
          <p:nvPr/>
        </p:nvSpPr>
        <p:spPr>
          <a:xfrm>
            <a:off x="380880" y="3886200"/>
            <a:ext cx="10211040" cy="2590920"/>
          </a:xfrm>
          <a:prstGeom prst="roundRect">
            <a:avLst>
              <a:gd name="adj" fmla="val 50000"/>
            </a:avLst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0" spc="-1" strike="noStrike">
                <a:solidFill>
                  <a:srgbClr val="cc0000"/>
                </a:solidFill>
                <a:latin typeface="Times New Roman"/>
              </a:rPr>
              <a:t>使う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14"/>
          <p:cNvSpPr/>
          <p:nvPr/>
        </p:nvSpPr>
        <p:spPr>
          <a:xfrm>
            <a:off x="2971800" y="1752480"/>
            <a:ext cx="5943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008000"/>
                </a:solidFill>
                <a:latin typeface="Times New Roman"/>
              </a:rPr>
              <a:t>診断ツールとして一部活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2971800" y="5410080"/>
            <a:ext cx="5943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0000"/>
                </a:solidFill>
                <a:latin typeface="Times New Roman"/>
              </a:rPr>
              <a:t>研修ツールとしてフル活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AutoShape 16"/>
          <p:cNvSpPr/>
          <p:nvPr/>
        </p:nvSpPr>
        <p:spPr>
          <a:xfrm>
            <a:off x="2819520" y="2590920"/>
            <a:ext cx="7772400" cy="2590560"/>
          </a:xfrm>
          <a:prstGeom prst="roundRect">
            <a:avLst>
              <a:gd name="adj" fmla="val 50000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5400" spc="-1" strike="noStrike">
                <a:solidFill>
                  <a:srgbClr val="ffffff"/>
                </a:solidFill>
                <a:latin typeface="Times New Roman"/>
              </a:rPr>
              <a:t>じんじ屋エール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5400" spc="-1" strike="noStrike">
                <a:solidFill>
                  <a:srgbClr val="ffffff"/>
                </a:solidFill>
                <a:latin typeface="Times New Roman"/>
              </a:rPr>
              <a:t>人事評価シリー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2"/>
          <p:cNvSpPr/>
          <p:nvPr/>
        </p:nvSpPr>
        <p:spPr>
          <a:xfrm>
            <a:off x="304920" y="228600"/>
            <a:ext cx="853416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Times New Roman"/>
              </a:rPr>
              <a:t>研修実施人数　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Times New Roman"/>
              </a:rPr>
              <a:t>標準２０～４０人　　最小１５人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AutoShape 3"/>
          <p:cNvSpPr/>
          <p:nvPr/>
        </p:nvSpPr>
        <p:spPr>
          <a:xfrm>
            <a:off x="762120" y="2362320"/>
            <a:ext cx="3581280" cy="1523880"/>
          </a:xfrm>
          <a:prstGeom prst="roundRect">
            <a:avLst>
              <a:gd name="adj" fmla="val 0"/>
            </a:avLst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ffffff"/>
                </a:solidFill>
                <a:latin typeface="Times New Roman"/>
              </a:rPr>
              <a:t>１社で実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AutoShape 4"/>
          <p:cNvSpPr/>
          <p:nvPr/>
        </p:nvSpPr>
        <p:spPr>
          <a:xfrm>
            <a:off x="762120" y="3657600"/>
            <a:ext cx="3581280" cy="2743200"/>
          </a:xfrm>
          <a:prstGeom prst="roundRect">
            <a:avLst>
              <a:gd name="adj" fmla="val 6704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社内の考え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を統一するこ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とができます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AutoShape 5"/>
          <p:cNvSpPr/>
          <p:nvPr/>
        </p:nvSpPr>
        <p:spPr>
          <a:xfrm>
            <a:off x="4724280" y="2362320"/>
            <a:ext cx="3581640" cy="1523880"/>
          </a:xfrm>
          <a:prstGeom prst="roundRect">
            <a:avLst>
              <a:gd name="adj" fmla="val 0"/>
            </a:avLst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ff"/>
                </a:solidFill>
                <a:latin typeface="Times New Roman"/>
              </a:rPr>
              <a:t>団体で実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AutoShape 6"/>
          <p:cNvSpPr/>
          <p:nvPr/>
        </p:nvSpPr>
        <p:spPr>
          <a:xfrm>
            <a:off x="4724280" y="3657600"/>
            <a:ext cx="3581640" cy="2743200"/>
          </a:xfrm>
          <a:prstGeom prst="roundRect">
            <a:avLst>
              <a:gd name="adj" fmla="val 6704"/>
            </a:avLst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小規模企業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受講するこ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ができます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5"/>
          <p:cNvSpPr/>
          <p:nvPr/>
        </p:nvSpPr>
        <p:spPr>
          <a:xfrm>
            <a:off x="304920" y="304920"/>
            <a:ext cx="8458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ＭＳ Ｐゴシック"/>
              </a:rPr>
              <a:t>研修メニュー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ectangle 6"/>
          <p:cNvSpPr/>
          <p:nvPr/>
        </p:nvSpPr>
        <p:spPr>
          <a:xfrm>
            <a:off x="228600" y="1371600"/>
            <a:ext cx="891540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◆</a:t>
            </a:r>
            <a:r>
              <a:rPr b="0" lang="ja-JP" sz="32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人事評価〇</a:t>
            </a:r>
            <a:r>
              <a:rPr b="0" lang="en-US" sz="32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×</a:t>
            </a:r>
            <a:r>
              <a:rPr b="0" lang="ja-JP" sz="32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クイズ </a:t>
            </a:r>
            <a:r>
              <a:rPr b="0" lang="en-US" sz="32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2</a:t>
            </a:r>
            <a:r>
              <a:rPr b="0" lang="ja-JP" sz="32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セット（</a:t>
            </a:r>
            <a:r>
              <a:rPr b="0" lang="en-US" sz="32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1.5</a:t>
            </a:r>
            <a:r>
              <a:rPr b="0" lang="ja-JP" sz="32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～</a:t>
            </a:r>
            <a:r>
              <a:rPr b="0" lang="en-US" sz="32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3.0</a:t>
            </a:r>
            <a:r>
              <a:rPr b="0" lang="ja-JP" sz="32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Ｈ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◆</a:t>
            </a:r>
            <a:r>
              <a:rPr b="0" lang="ja-JP" sz="32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人事評価法律〇</a:t>
            </a:r>
            <a:r>
              <a:rPr b="0" lang="en-US" sz="32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×</a:t>
            </a:r>
            <a:r>
              <a:rPr b="0" lang="ja-JP" sz="32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クイズ　　（</a:t>
            </a:r>
            <a:r>
              <a:rPr b="0" lang="en-US" sz="32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1.0</a:t>
            </a:r>
            <a:r>
              <a:rPr b="0" lang="ja-JP" sz="32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～</a:t>
            </a:r>
            <a:r>
              <a:rPr b="0" lang="en-US" sz="32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2.0</a:t>
            </a:r>
            <a:r>
              <a:rPr b="0" lang="ja-JP" sz="32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Ｈ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◆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クイズ！評価者エラーを探せ（</a:t>
            </a:r>
            <a:r>
              <a:rPr b="0" lang="en-US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.0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～</a:t>
            </a:r>
            <a:r>
              <a:rPr b="0" lang="en-US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.5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Ｈ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◆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５段階評価の事例　　　　　（</a:t>
            </a:r>
            <a:r>
              <a:rPr b="0" lang="en-US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.5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～</a:t>
            </a:r>
            <a:r>
              <a:rPr b="0" lang="en-US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3.0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Ｈ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◆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人事評価制度のポイント　　（   ～</a:t>
            </a:r>
            <a:r>
              <a:rPr b="0" lang="en-US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.0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Ｈ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2"/>
          <p:cNvSpPr/>
          <p:nvPr/>
        </p:nvSpPr>
        <p:spPr>
          <a:xfrm>
            <a:off x="228600" y="304920"/>
            <a:ext cx="868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000000"/>
                </a:solidFill>
                <a:latin typeface="Times New Roman"/>
              </a:rPr>
              <a:t>マルペケクイズ研修の目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3"/>
          <p:cNvSpPr/>
          <p:nvPr/>
        </p:nvSpPr>
        <p:spPr>
          <a:xfrm>
            <a:off x="0" y="304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4"/>
          <p:cNvSpPr/>
          <p:nvPr/>
        </p:nvSpPr>
        <p:spPr>
          <a:xfrm>
            <a:off x="228600" y="1295280"/>
            <a:ext cx="868680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ＭＳ Ｐゴシック"/>
              </a:rPr>
              <a:t>◆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評価者の評価結果の</a:t>
            </a:r>
            <a:r>
              <a:rPr b="0" lang="ja-JP" sz="3200" spc="-1" strike="noStrike">
                <a:solidFill>
                  <a:srgbClr val="ff0000"/>
                </a:solidFill>
                <a:latin typeface="ＭＳ Ｐゴシック"/>
              </a:rPr>
              <a:t>バラツキ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を発見す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◆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評価者の</a:t>
            </a:r>
            <a:r>
              <a:rPr b="0" lang="ja-JP" sz="3200" spc="-1" strike="noStrike">
                <a:solidFill>
                  <a:srgbClr val="ff0000"/>
                </a:solidFill>
                <a:latin typeface="ＭＳ Ｐゴシック"/>
              </a:rPr>
              <a:t>評価ミス</a:t>
            </a:r>
            <a:r>
              <a:rPr b="0" lang="en-US" sz="3200" spc="-1" strike="noStrike">
                <a:solidFill>
                  <a:srgbClr val="ff0000"/>
                </a:solidFill>
                <a:latin typeface="ＭＳ Ｐゴシック"/>
              </a:rPr>
              <a:t>(</a:t>
            </a:r>
            <a:r>
              <a:rPr b="0" lang="ja-JP" sz="3200" spc="-1" strike="noStrike">
                <a:solidFill>
                  <a:srgbClr val="ff0000"/>
                </a:solidFill>
                <a:latin typeface="ＭＳ Ｐゴシック"/>
              </a:rPr>
              <a:t>エラー</a:t>
            </a:r>
            <a:r>
              <a:rPr b="0" lang="en-US" sz="3200" spc="-1" strike="noStrike">
                <a:solidFill>
                  <a:srgbClr val="ff0000"/>
                </a:solidFill>
                <a:latin typeface="ＭＳ Ｐゴシック"/>
              </a:rPr>
              <a:t>)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を発見す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◆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人事評価に関する</a:t>
            </a:r>
            <a:r>
              <a:rPr b="0" lang="ja-JP" sz="3200" spc="-1" strike="noStrike">
                <a:solidFill>
                  <a:srgbClr val="ff0000"/>
                </a:solidFill>
                <a:latin typeface="ＭＳ Ｐゴシック"/>
              </a:rPr>
              <a:t>法的な部分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2"/>
          <p:cNvSpPr/>
          <p:nvPr/>
        </p:nvSpPr>
        <p:spPr>
          <a:xfrm>
            <a:off x="228600" y="228600"/>
            <a:ext cx="868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000000"/>
                </a:solidFill>
                <a:latin typeface="Times New Roman"/>
              </a:rPr>
              <a:t>マルペケクイズ研修の効果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Rectangle 3"/>
          <p:cNvSpPr/>
          <p:nvPr/>
        </p:nvSpPr>
        <p:spPr>
          <a:xfrm>
            <a:off x="0" y="304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Rectangle 4"/>
          <p:cNvSpPr/>
          <p:nvPr/>
        </p:nvSpPr>
        <p:spPr>
          <a:xfrm>
            <a:off x="228600" y="1905120"/>
            <a:ext cx="86868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ＭＳ Ｐゴシック"/>
              </a:rPr>
              <a:t>◆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評価の</a:t>
            </a:r>
            <a:r>
              <a:rPr b="0" lang="ja-JP" sz="3200" spc="-1" strike="noStrike">
                <a:solidFill>
                  <a:srgbClr val="ff0000"/>
                </a:solidFill>
                <a:latin typeface="ＭＳ Ｐゴシック"/>
              </a:rPr>
              <a:t>精度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が高ま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◆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評価者が</a:t>
            </a:r>
            <a:r>
              <a:rPr b="0" lang="ja-JP" sz="3200" spc="-1" strike="noStrike">
                <a:solidFill>
                  <a:srgbClr val="ff0000"/>
                </a:solidFill>
                <a:latin typeface="ＭＳ Ｐゴシック"/>
              </a:rPr>
              <a:t>自信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を持って評価することができ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◆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部下に適切な</a:t>
            </a:r>
            <a:r>
              <a:rPr b="0" lang="ja-JP" sz="3200" spc="-1" strike="noStrike">
                <a:solidFill>
                  <a:srgbClr val="ff0000"/>
                </a:solidFill>
                <a:latin typeface="ＭＳ Ｐゴシック"/>
              </a:rPr>
              <a:t>フィードバック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を行うことができる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2"/>
          <p:cNvSpPr/>
          <p:nvPr/>
        </p:nvSpPr>
        <p:spPr>
          <a:xfrm>
            <a:off x="228600" y="228600"/>
            <a:ext cx="868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000000"/>
                </a:solidFill>
                <a:latin typeface="Times New Roman"/>
              </a:rPr>
              <a:t>マルペケクイズ研修の進め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3"/>
          <p:cNvSpPr/>
          <p:nvPr/>
        </p:nvSpPr>
        <p:spPr>
          <a:xfrm>
            <a:off x="0" y="304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ectangle 4"/>
          <p:cNvSpPr/>
          <p:nvPr/>
        </p:nvSpPr>
        <p:spPr>
          <a:xfrm>
            <a:off x="228600" y="1905120"/>
            <a:ext cx="86868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ＭＳ Ｐゴシック"/>
              </a:rPr>
              <a:t>◆○</a:t>
            </a:r>
            <a:r>
              <a:rPr b="0" lang="en-US" sz="3200" spc="-1" strike="noStrike">
                <a:solidFill>
                  <a:srgbClr val="000000"/>
                </a:solidFill>
                <a:latin typeface="ＭＳ Ｐゴシック"/>
              </a:rPr>
              <a:t>×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クイズ方式の事例研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◆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グループ編成 → 最高得点のグループが優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◆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事例にはトラップ</a:t>
            </a:r>
            <a:r>
              <a:rPr b="0" lang="en-US" sz="3200" spc="-1" strike="noStrike">
                <a:solidFill>
                  <a:srgbClr val="000000"/>
                </a:solidFill>
                <a:latin typeface="ＭＳ Ｐゴシック"/>
              </a:rPr>
              <a:t>(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わな</a:t>
            </a:r>
            <a:r>
              <a:rPr b="0" lang="en-US" sz="3200" spc="-1" strike="noStrike">
                <a:solidFill>
                  <a:srgbClr val="000000"/>
                </a:solidFill>
                <a:latin typeface="ＭＳ Ｐゴシック"/>
              </a:rPr>
              <a:t>)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を仕掛けています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　　　　　　　　　　</a:t>
            </a:r>
            <a:r>
              <a:rPr b="0" lang="ja-JP" sz="3200" spc="-1" strike="noStrike">
                <a:solidFill>
                  <a:srgbClr val="008000"/>
                </a:solidFill>
                <a:latin typeface="ＭＳ Ｐゴシック"/>
              </a:rPr>
              <a:t>・・・次ペー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2"/>
          <p:cNvSpPr/>
          <p:nvPr/>
        </p:nvSpPr>
        <p:spPr>
          <a:xfrm>
            <a:off x="-117360" y="161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7" name="Object 6"/>
          <p:cNvGraphicFramePr/>
          <p:nvPr/>
        </p:nvGraphicFramePr>
        <p:xfrm>
          <a:off x="304920" y="1752480"/>
          <a:ext cx="3300120" cy="490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752480"/>
                    <a:ext cx="3300120" cy="490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" name="Object 8"/>
          <p:cNvGraphicFramePr/>
          <p:nvPr/>
        </p:nvGraphicFramePr>
        <p:xfrm>
          <a:off x="4038480" y="457200"/>
          <a:ext cx="4496040" cy="2962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038480" y="457200"/>
                    <a:ext cx="4496040" cy="296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Rectangle 9"/>
          <p:cNvSpPr/>
          <p:nvPr/>
        </p:nvSpPr>
        <p:spPr>
          <a:xfrm>
            <a:off x="228600" y="304920"/>
            <a:ext cx="3352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ＭＳ Ｐゴシック"/>
              </a:rPr>
              <a:t>◆</a:t>
            </a:r>
            <a:r>
              <a:rPr b="1" lang="ja-JP" sz="3200" spc="-1" strike="noStrike">
                <a:solidFill>
                  <a:srgbClr val="000000"/>
                </a:solidFill>
                <a:latin typeface="ＭＳ Ｐゴシック"/>
              </a:rPr>
              <a:t>グループ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を作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ＭＳ Ｐゴシック"/>
              </a:rPr>
              <a:t>(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受講者</a:t>
            </a:r>
            <a:r>
              <a:rPr b="0" lang="en-US" sz="3200" spc="-1" strike="noStrike">
                <a:solidFill>
                  <a:srgbClr val="000000"/>
                </a:solidFill>
                <a:latin typeface="ＭＳ Ｐゴシック"/>
              </a:rPr>
              <a:t>30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人の例</a:t>
            </a:r>
            <a:r>
              <a:rPr b="0" lang="en-US" sz="3200" spc="-1" strike="noStrike">
                <a:solidFill>
                  <a:srgbClr val="000000"/>
                </a:solidFill>
                <a:latin typeface="ＭＳ Ｐゴシック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3962520" y="3733920"/>
            <a:ext cx="49528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</a:rPr>
              <a:t>・グループを選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</a:rPr>
              <a:t>　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</a:rPr>
              <a:t>・グループに名称をつけ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</a:rPr>
              <a:t>　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</a:rPr>
              <a:t>・リーダーと発表者を決める　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2"/>
          <p:cNvSpPr/>
          <p:nvPr/>
        </p:nvSpPr>
        <p:spPr>
          <a:xfrm>
            <a:off x="1447920" y="0"/>
            <a:ext cx="6324480" cy="682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ＭＳ Ｐゴシック"/>
              </a:rPr>
              <a:t>　　　　　</a:t>
            </a:r>
            <a:r>
              <a:rPr b="0" lang="ja-JP" sz="4000" spc="-1" strike="noStrike">
                <a:solidFill>
                  <a:srgbClr val="cc0000"/>
                </a:solidFill>
                <a:latin typeface="ＭＳ Ｐゴシック"/>
              </a:rPr>
              <a:t>個人別に解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　受講者全員に用紙を配る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　→個人別にクイズを解く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　→解答記入用紙を回収</a:t>
            </a:r>
            <a:r>
              <a:rPr b="0" lang="en-US" sz="3200" spc="-1" strike="noStrike">
                <a:solidFill>
                  <a:srgbClr val="000000"/>
                </a:solidFill>
                <a:latin typeface="ＭＳ Ｐゴシック"/>
              </a:rPr>
              <a:t>(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無記名</a:t>
            </a:r>
            <a:r>
              <a:rPr b="0" lang="en-US" sz="3200" spc="-1" strike="noStrike">
                <a:solidFill>
                  <a:srgbClr val="000000"/>
                </a:solidFill>
                <a:latin typeface="ＭＳ Ｐゴシック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　　　　　　　　　　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0000"/>
                </a:solidFill>
                <a:latin typeface="ＭＳ Ｐゴシック"/>
              </a:rPr>
              <a:t>同じものをグループ毎に解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　各グループに１枚、用紙を配る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　→グループ毎にクイズを解く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　→○</a:t>
            </a:r>
            <a:r>
              <a:rPr b="0" lang="en-US" sz="3200" spc="-1" strike="noStrike">
                <a:solidFill>
                  <a:srgbClr val="000000"/>
                </a:solidFill>
                <a:latin typeface="ＭＳ Ｐゴシック"/>
              </a:rPr>
              <a:t>×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の解答と、理由をまとめる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4T09:00:01Z</dcterms:created>
  <dc:creator>jyell2</dc:creator>
  <dc:description/>
  <dc:language>en-US</dc:language>
  <cp:lastModifiedBy>Satoshi</cp:lastModifiedBy>
  <dcterms:modified xsi:type="dcterms:W3CDTF">2021-11-10T02:50:30Z</dcterms:modified>
  <cp:revision>28</cp:revision>
  <dc:subject/>
  <dc:title>PowerPoint プレゼンテーション</dc:title>
</cp:coreProperties>
</file>